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DRIVEBY.WAV" ContentType="audio/x-wav"/>
  <Override PartName="/ppt/media/LASER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A646-A422-43EC-A859-AE06DBC3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DF2A-C800-4BFC-8F4B-24B869F1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BA1B-1F12-466C-BCD4-CDB899DD6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C1C8-5E96-4136-8AFB-39D81F3C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29AA-6E3B-438C-9A30-E8E695B2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9003-783B-4E90-8770-9006D809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8D36-4CB5-4A79-8A4A-55815A7A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3AD3-298A-41FD-BC82-D44B738E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51F7-838E-405F-8A3F-6F674A51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A0EA-2DF9-4F9C-A594-005FDF86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2B1-F918-42B0-A592-C17B73E2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A081-7620-457F-86AE-AD59C593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8A0C-9C9E-453E-966F-1B63FCBE7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DRIVEBY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90920" y="457200"/>
            <a:ext cx="4038480" cy="8002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17738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Lucida Calligraphy"/>
              </a:rPr>
              <a:t>POLYNOMIAL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Lucida Calligraphy"/>
              <a:ea typeface="Lucida Calligraphy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1143000"/>
            <a:ext cx="7944120" cy="647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Lucida Calligraphy"/>
              </a:rPr>
              <a:t>ADDITION  AND  SUBTRAC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Lucida Calligraphy"/>
              <a:ea typeface="Lucida Calligraphy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195560" y="1676520"/>
                <a:ext cx="626256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971800" y="2514600"/>
                <a:ext cx="6858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581280" y="2590920"/>
                <a:ext cx="9907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04640" y="3505320"/>
                <a:ext cx="85615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838080" y="4267080"/>
                <a:ext cx="365760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419720" y="4267080"/>
                <a:ext cx="121896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562720" y="4267080"/>
                <a:ext cx="13716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934320" y="4343400"/>
                <a:ext cx="990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76520" y="5076720"/>
                <a:ext cx="9903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514600" y="5105520"/>
                <a:ext cx="114300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581280" y="5105520"/>
                <a:ext cx="1143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648320" y="5181480"/>
                <a:ext cx="9144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4560" y="1225800"/>
            <a:ext cx="83462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Old English Text MT"/>
              </a:rPr>
              <a:t>Bookwork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Old English Text MT"/>
              </a:rPr>
              <a:t>pg. 657 #2-50 eve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75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675"/>
                            </p:stCondLst>
                            <p:childTnLst>
                              <p:par>
                                <p:cTn id="72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75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75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20:18:39Z</dcterms:created>
  <dc:creator>CCSS</dc:creator>
  <dc:description/>
  <dc:language>en-US</dc:language>
  <cp:lastModifiedBy>damon.skelton</cp:lastModifiedBy>
  <dcterms:modified xsi:type="dcterms:W3CDTF">2003-04-17T15:29:14Z</dcterms:modified>
  <cp:revision>10</cp:revision>
  <dc:subject/>
  <dc:title>No Slide Title</dc:title>
</cp:coreProperties>
</file>